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version3.wav" ContentType="audio/x-wav"/>
  <Override PartName="/ppt/media/image20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B697-8B31-4B48-8C58-FF61DC2DC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7D12-C3C1-4298-A5E3-26A2033C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7666-996C-491E-9A96-3CE57543D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92A4-C86B-4A3A-8BE8-04A7FB270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6197-81C2-49A7-9F2C-04618F4F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C1E5-E71D-4389-955A-753126E8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1B48-1E34-4E27-AE65-807A28B8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1818-3D52-4122-9607-7A0571BE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9D81-D67F-416C-8768-0BF18545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50A9-98D7-475E-B7DC-2617CB4C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7D41-9F72-4870-8A65-FA7F456C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0286-B520-4541-B05D-1DBCB425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26BEA0B-543E-4AAE-9560-7A9A1CECEE75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version3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hickenwingscomics.com/" TargetMode="External"/><Relationship Id="rId3" Type="http://schemas.openxmlformats.org/officeDocument/2006/relationships/hyperlink" Target="http://www.chickenwingscomics.com/" TargetMode="External"/><Relationship Id="rId4" Type="http://schemas.openxmlformats.org/officeDocument/2006/relationships/hyperlink" Target="http://www.chickenwingscomics.com/" TargetMode="External"/><Relationship Id="rId5" Type="http://schemas.openxmlformats.org/officeDocument/2006/relationships/hyperlink" Target="http://www.chickenwingscomics.com/" TargetMode="External"/><Relationship Id="rId6" Type="http://schemas.openxmlformats.org/officeDocument/2006/relationships/hyperlink" Target="http://www.chickenwingscomics.com/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237816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c0b478"/>
                </a:solidFill>
                <a:latin typeface="Castellar"/>
              </a:rPr>
              <a:t>Moments in Aviation History</a:t>
            </a:r>
            <a:r>
              <a:rPr b="0" lang="de-AT" sz="4400" spc="-1" strike="noStrike">
                <a:solidFill>
                  <a:srgbClr val="c0b478"/>
                </a:solidFill>
                <a:latin typeface="Castellar"/>
                <a:ea typeface="Times New Roman"/>
              </a:rPr>
              <a:t> </a:t>
            </a:r>
            <a:r>
              <a:rPr b="0" lang="de-AT" sz="4400" spc="-1" strike="noStrike">
                <a:solidFill>
                  <a:srgbClr val="c0b478"/>
                </a:solidFill>
                <a:latin typeface="Castellar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19520" y="3048120"/>
            <a:ext cx="373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9600" spc="-1" strike="noStrike">
                <a:solidFill>
                  <a:srgbClr val="c0b478"/>
                </a:solidFill>
                <a:latin typeface="MarkieDing1"/>
                <a:ea typeface="Times New Roman"/>
              </a:rPr>
              <a:t>f</a:t>
            </a:r>
            <a:r>
              <a:rPr b="0" lang="de-DE" sz="9600" spc="-1" strike="noStrike">
                <a:solidFill>
                  <a:srgbClr val="c0b478"/>
                </a:solidFill>
                <a:latin typeface="Times New Roman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324480" y="62485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c0b478"/>
                </a:solidFill>
                <a:latin typeface="High Tower Text"/>
                <a:ea typeface="Times New Roman"/>
              </a:rPr>
              <a:t>Click for next sl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304920"/>
            <a:ext cx="7772400" cy="30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4400" spc="-1" strike="noStrike">
                <a:solidFill>
                  <a:srgbClr val="c0b478"/>
                </a:solidFill>
                <a:latin typeface="High Tower Text"/>
                <a:ea typeface="Times New Roman"/>
              </a:rPr>
              <a:t>May 20, 19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c0b478"/>
                </a:solidFill>
                <a:latin typeface="High Tower Text"/>
                <a:ea typeface="Times New Roman"/>
              </a:rPr>
              <a:t>Charles Lindbergh took off from Roosevelt Field near New York City for the first non-stop flight across the Atlant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lindbergh-sepia" descr=""/>
          <p:cNvPicPr/>
          <p:nvPr/>
        </p:nvPicPr>
        <p:blipFill>
          <a:blip r:embed="rId2"/>
          <a:stretch/>
        </p:blipFill>
        <p:spPr>
          <a:xfrm>
            <a:off x="4114800" y="3048120"/>
            <a:ext cx="4381560" cy="34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30492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c0b478"/>
                </a:solidFill>
                <a:latin typeface="High Tower Text"/>
                <a:ea typeface="Times New Roman"/>
              </a:rPr>
              <a:t>His preparations and his machine, the “Spirit of St. Louis”, were (almost) flawles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spc0048-sepia" descr=""/>
          <p:cNvPicPr/>
          <p:nvPr/>
        </p:nvPicPr>
        <p:blipFill>
          <a:blip r:embed="rId2"/>
          <a:stretch/>
        </p:blipFill>
        <p:spPr>
          <a:xfrm>
            <a:off x="3809880" y="1600200"/>
            <a:ext cx="4915080" cy="49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304920"/>
            <a:ext cx="7924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c0b478"/>
                </a:solidFill>
                <a:latin typeface="High Tower Text"/>
                <a:ea typeface="Times New Roman"/>
              </a:rPr>
              <a:t>During World War II, aircraft became more and more advanced and aviation once again made huge leaps. (And the occasional dive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spc0021-sepia" descr=""/>
          <p:cNvPicPr/>
          <p:nvPr/>
        </p:nvPicPr>
        <p:blipFill>
          <a:blip r:embed="rId2"/>
          <a:stretch/>
        </p:blipFill>
        <p:spPr>
          <a:xfrm>
            <a:off x="4191120" y="2133720"/>
            <a:ext cx="4457520" cy="44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4920" y="30492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c0b478"/>
                </a:solidFill>
                <a:latin typeface="High Tower Text"/>
                <a:ea typeface="Times New Roman"/>
              </a:rPr>
              <a:t>Mankind was able to fly higher and further with every year that went b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spc0038-sepia" descr=""/>
          <p:cNvPicPr/>
          <p:nvPr/>
        </p:nvPicPr>
        <p:blipFill>
          <a:blip r:embed="rId2"/>
          <a:stretch/>
        </p:blipFill>
        <p:spPr>
          <a:xfrm>
            <a:off x="4267080" y="2133720"/>
            <a:ext cx="4152960" cy="415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04920" y="304920"/>
            <a:ext cx="7772400" cy="25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4400" spc="-1" strike="noStrike">
                <a:solidFill>
                  <a:srgbClr val="c0b478"/>
                </a:solidFill>
                <a:latin typeface="High Tower Text"/>
                <a:ea typeface="Times New Roman"/>
              </a:rPr>
              <a:t>April 12, 196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c0b478"/>
                </a:solidFill>
                <a:latin typeface="High Tower Text"/>
                <a:ea typeface="Times New Roman"/>
              </a:rPr>
              <a:t>The first person to go beyond the great blue yonder was Juri Gagarin on the Vostok 1 mi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vostok1-sepia" descr=""/>
          <p:cNvPicPr/>
          <p:nvPr/>
        </p:nvPicPr>
        <p:blipFill>
          <a:blip r:embed="rId2"/>
          <a:stretch/>
        </p:blipFill>
        <p:spPr>
          <a:xfrm>
            <a:off x="5246640" y="2514600"/>
            <a:ext cx="3497400" cy="4030560"/>
          </a:xfrm>
          <a:prstGeom prst="rect">
            <a:avLst/>
          </a:prstGeom>
          <a:ln w="0">
            <a:noFill/>
          </a:ln>
        </p:spPr>
      </p:pic>
      <p:pic>
        <p:nvPicPr>
          <p:cNvPr id="75" name="gagarin-sepia" descr=""/>
          <p:cNvPicPr/>
          <p:nvPr/>
        </p:nvPicPr>
        <p:blipFill>
          <a:blip r:embed="rId3"/>
          <a:stretch/>
        </p:blipFill>
        <p:spPr>
          <a:xfrm>
            <a:off x="1371600" y="3276720"/>
            <a:ext cx="3186000" cy="32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04920" y="304920"/>
            <a:ext cx="7772400" cy="34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4400" spc="-1" strike="noStrike">
                <a:solidFill>
                  <a:srgbClr val="c0b478"/>
                </a:solidFill>
                <a:latin typeface="High Tower Text"/>
                <a:ea typeface="Times New Roman"/>
              </a:rPr>
              <a:t>July 20, 196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c0b478"/>
                </a:solidFill>
                <a:latin typeface="High Tower Text"/>
                <a:ea typeface="Times New Roman"/>
              </a:rPr>
              <a:t>Neil Armstrong and Buzz Aldrin landed on the moon during the Apollo 11 space fl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spc0065-sepia" descr=""/>
          <p:cNvPicPr/>
          <p:nvPr/>
        </p:nvPicPr>
        <p:blipFill>
          <a:blip r:embed="rId2"/>
          <a:stretch/>
        </p:blipFill>
        <p:spPr>
          <a:xfrm>
            <a:off x="4572000" y="2590920"/>
            <a:ext cx="4000680" cy="4000320"/>
          </a:xfrm>
          <a:prstGeom prst="rect">
            <a:avLst/>
          </a:prstGeom>
          <a:ln w="0">
            <a:noFill/>
          </a:ln>
        </p:spPr>
      </p:pic>
      <p:pic>
        <p:nvPicPr>
          <p:cNvPr id="78" name="apollo11-sepia" descr=""/>
          <p:cNvPicPr/>
          <p:nvPr/>
        </p:nvPicPr>
        <p:blipFill>
          <a:blip r:embed="rId3"/>
          <a:stretch/>
        </p:blipFill>
        <p:spPr>
          <a:xfrm>
            <a:off x="533520" y="38178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04920" y="304920"/>
            <a:ext cx="7162560" cy="25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4400" spc="-1" strike="noStrike">
                <a:solidFill>
                  <a:srgbClr val="c0b478"/>
                </a:solidFill>
                <a:latin typeface="High Tower Text"/>
                <a:ea typeface="Times New Roman"/>
              </a:rPr>
              <a:t>January 22, 197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c0b478"/>
                </a:solidFill>
                <a:latin typeface="High Tower Text"/>
                <a:ea typeface="Times New Roman"/>
              </a:rPr>
              <a:t>The first Boeing 747 entered service on Pan Am’s “New York – London” rou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747" descr=""/>
          <p:cNvPicPr/>
          <p:nvPr/>
        </p:nvPicPr>
        <p:blipFill>
          <a:blip r:embed="rId2"/>
          <a:stretch/>
        </p:blipFill>
        <p:spPr>
          <a:xfrm>
            <a:off x="3516480" y="2754360"/>
            <a:ext cx="5246640" cy="383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30492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c0b478"/>
                </a:solidFill>
                <a:latin typeface="High Tower Text"/>
                <a:ea typeface="Times New Roman"/>
              </a:rPr>
              <a:t>And a few years later, something amazing happened that’s not found in any aviation history books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spc0067-sepia" descr=""/>
          <p:cNvPicPr/>
          <p:nvPr/>
        </p:nvPicPr>
        <p:blipFill>
          <a:blip r:embed="rId2"/>
          <a:stretch/>
        </p:blipFill>
        <p:spPr>
          <a:xfrm>
            <a:off x="2209680" y="2133720"/>
            <a:ext cx="4419720" cy="44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04920" y="30492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c0b478"/>
                </a:solidFill>
                <a:latin typeface="High Tower Text"/>
                <a:ea typeface="Times New Roman"/>
              </a:rPr>
              <a:t>Aviation has advanced so rapidly, we don’t even need to be in the aircraft anym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redator-drone" descr=""/>
          <p:cNvPicPr/>
          <p:nvPr/>
        </p:nvPicPr>
        <p:blipFill>
          <a:blip r:embed="rId2"/>
          <a:stretch/>
        </p:blipFill>
        <p:spPr>
          <a:xfrm>
            <a:off x="380880" y="2286000"/>
            <a:ext cx="4114800" cy="2365200"/>
          </a:xfrm>
          <a:prstGeom prst="rect">
            <a:avLst/>
          </a:prstGeom>
          <a:ln w="0">
            <a:noFill/>
          </a:ln>
        </p:spPr>
      </p:pic>
      <p:pic>
        <p:nvPicPr>
          <p:cNvPr id="85" name="attack-drone" descr=""/>
          <p:cNvPicPr/>
          <p:nvPr/>
        </p:nvPicPr>
        <p:blipFill>
          <a:blip r:embed="rId3"/>
          <a:stretch/>
        </p:blipFill>
        <p:spPr>
          <a:xfrm>
            <a:off x="2362320" y="4495680"/>
            <a:ext cx="3962160" cy="1782720"/>
          </a:xfrm>
          <a:prstGeom prst="rect">
            <a:avLst/>
          </a:prstGeom>
          <a:ln w="0">
            <a:noFill/>
          </a:ln>
        </p:spPr>
      </p:pic>
      <p:pic>
        <p:nvPicPr>
          <p:cNvPr id="86" name="satellite" descr=""/>
          <p:cNvPicPr/>
          <p:nvPr/>
        </p:nvPicPr>
        <p:blipFill>
          <a:blip r:embed="rId4"/>
          <a:stretch/>
        </p:blipFill>
        <p:spPr>
          <a:xfrm>
            <a:off x="5486400" y="2590920"/>
            <a:ext cx="3124080" cy="24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04920" y="30492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c0b478"/>
                </a:solidFill>
                <a:latin typeface="High Tower Text"/>
                <a:ea typeface="Times New Roman"/>
              </a:rPr>
              <a:t>The corresponding evolution of aviators is displayed with the help of fighter pilots in this scientific graphical expositio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evolution" descr=""/>
          <p:cNvPicPr/>
          <p:nvPr/>
        </p:nvPicPr>
        <p:blipFill>
          <a:blip r:embed="rId2"/>
          <a:stretch/>
        </p:blipFill>
        <p:spPr>
          <a:xfrm>
            <a:off x="285840" y="1905120"/>
            <a:ext cx="8572320" cy="3809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0880" y="6019920"/>
            <a:ext cx="7848720" cy="0"/>
          </a:xfrm>
          <a:prstGeom prst="line">
            <a:avLst/>
          </a:prstGeom>
          <a:ln w="38160">
            <a:solidFill>
              <a:srgbClr val="ada661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05920" y="5638680"/>
            <a:ext cx="3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4000" spc="-1" strike="noStrike">
                <a:solidFill>
                  <a:srgbClr val="b7b36b"/>
                </a:solidFill>
                <a:latin typeface="Times New Roman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6172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b7b36b"/>
                </a:solidFill>
                <a:latin typeface="Times New Roman"/>
              </a:rPr>
              <a:t>1920                  1940              1980                    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457200"/>
            <a:ext cx="723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c0b478"/>
                </a:solidFill>
                <a:latin typeface="High Tower Text"/>
                <a:ea typeface="Times New Roman"/>
              </a:rPr>
              <a:t>Since the dawn of time, visionaries and inventors shared one dream - to fl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862520" y="1833480"/>
            <a:ext cx="3976560" cy="2738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04920" y="3048120"/>
            <a:ext cx="4267080" cy="30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80880" y="4495680"/>
            <a:ext cx="830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 u="sng">
                <a:solidFill>
                  <a:srgbClr val="b7b36b"/>
                </a:solidFill>
                <a:uFillTx/>
                <a:latin typeface="High Tower Text"/>
                <a:hlinkClick r:id="rId2"/>
              </a:rPr>
              <a:t>www</a:t>
            </a:r>
            <a:r>
              <a:rPr b="0" lang="de-DE" sz="2400" spc="-1" strike="noStrike" u="sng">
                <a:solidFill>
                  <a:srgbClr val="b7b36b"/>
                </a:solidFill>
                <a:uFillTx/>
                <a:latin typeface="High Tower Text"/>
                <a:hlinkClick r:id="rId3"/>
              </a:rPr>
              <a:t>.</a:t>
            </a:r>
            <a:r>
              <a:rPr b="0" lang="de-DE" sz="2400" spc="-1" strike="noStrike" u="sng">
                <a:solidFill>
                  <a:srgbClr val="b7b36b"/>
                </a:solidFill>
                <a:uFillTx/>
                <a:latin typeface="High Tower Text"/>
                <a:hlinkClick r:id="rId4"/>
              </a:rPr>
              <a:t>chickenwingscomics</a:t>
            </a:r>
            <a:r>
              <a:rPr b="0" lang="de-DE" sz="2400" spc="-1" strike="noStrike" u="sng">
                <a:solidFill>
                  <a:srgbClr val="b7b36b"/>
                </a:solidFill>
                <a:uFillTx/>
                <a:latin typeface="High Tower Text"/>
                <a:hlinkClick r:id="rId5"/>
              </a:rPr>
              <a:t>.</a:t>
            </a:r>
            <a:r>
              <a:rPr b="0" lang="de-DE" sz="2400" spc="-1" strike="noStrike" u="sng">
                <a:solidFill>
                  <a:srgbClr val="b7b36b"/>
                </a:solidFill>
                <a:uFillTx/>
                <a:latin typeface="High Tower Text"/>
                <a:hlinkClick r:id="rId6"/>
              </a:rPr>
              <a:t>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419112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9600" spc="-1" strike="noStrike">
                <a:solidFill>
                  <a:srgbClr val="c0b478"/>
                </a:solidFill>
                <a:latin typeface="MarkieDing1"/>
                <a:ea typeface="Times New Roman"/>
              </a:rPr>
              <a:t>f</a:t>
            </a:r>
            <a:r>
              <a:rPr b="0" lang="de-DE" sz="9600" spc="-1" strike="noStrike">
                <a:solidFill>
                  <a:srgbClr val="c0b478"/>
                </a:solidFill>
                <a:latin typeface="Times New Roman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2362320"/>
            <a:ext cx="8076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6600" spc="-1" strike="noStrike">
                <a:solidFill>
                  <a:srgbClr val="b7b36b"/>
                </a:solidFill>
                <a:latin typeface="Freestyle Script"/>
              </a:rPr>
              <a:t>Chuck, is that you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304920"/>
            <a:ext cx="723888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4400" spc="-1" strike="noStrike">
                <a:solidFill>
                  <a:srgbClr val="c0b478"/>
                </a:solidFill>
                <a:latin typeface="High Tower Text"/>
                <a:ea typeface="Times New Roman"/>
              </a:rPr>
              <a:t>December 17, 19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c0b478"/>
                </a:solidFill>
                <a:latin typeface="High Tower Text"/>
                <a:ea typeface="Times New Roman"/>
              </a:rPr>
              <a:t>The Wright Brothers made their first successful powered fl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wright-sepia" descr=""/>
          <p:cNvPicPr/>
          <p:nvPr/>
        </p:nvPicPr>
        <p:blipFill>
          <a:blip r:embed="rId2"/>
          <a:stretch/>
        </p:blipFill>
        <p:spPr>
          <a:xfrm>
            <a:off x="2286000" y="2514600"/>
            <a:ext cx="6629400" cy="41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30492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4400" spc="-1" strike="noStrike">
                <a:solidFill>
                  <a:srgbClr val="c0b478"/>
                </a:solidFill>
                <a:latin typeface="High Tower Text"/>
                <a:ea typeface="Times New Roman"/>
              </a:rPr>
              <a:t>Also on December 17, 19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600200"/>
            <a:ext cx="3505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c0b478"/>
                </a:solidFill>
                <a:latin typeface="High Tower Text"/>
                <a:ea typeface="Times New Roman"/>
              </a:rPr>
              <a:t>Only minutes afterwards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3600" spc="-1" strike="noStrike">
                <a:solidFill>
                  <a:srgbClr val="c0b478"/>
                </a:solidFill>
                <a:latin typeface="High Tower Text"/>
              </a:rPr>
              <a:t>The first no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3600" spc="-1" strike="noStrike">
                <a:solidFill>
                  <a:srgbClr val="c0b478"/>
                </a:solidFill>
                <a:latin typeface="High Tower Text"/>
              </a:rPr>
              <a:t>complain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809880" y="1523880"/>
            <a:ext cx="514368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45720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c0b478"/>
                </a:solidFill>
                <a:latin typeface="High Tower Text"/>
                <a:ea typeface="Times New Roman"/>
              </a:rPr>
              <a:t>The first flight was a mere 120 feet long. Historical records show why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spc0079-sepia" descr=""/>
          <p:cNvPicPr/>
          <p:nvPr/>
        </p:nvPicPr>
        <p:blipFill>
          <a:blip r:embed="rId2"/>
          <a:stretch/>
        </p:blipFill>
        <p:spPr>
          <a:xfrm>
            <a:off x="1981080" y="1905120"/>
            <a:ext cx="6705720" cy="45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30492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c0b478"/>
                </a:solidFill>
                <a:latin typeface="High Tower Text"/>
                <a:ea typeface="Times New Roman"/>
              </a:rPr>
              <a:t>Soon, other brave souls took to the air in their self-constructed machine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04920" y="2971800"/>
            <a:ext cx="3809880" cy="2965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419720" y="2192400"/>
            <a:ext cx="4495680" cy="253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30492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c0b478"/>
                </a:solidFill>
                <a:latin typeface="High Tower Text"/>
                <a:ea typeface="Times New Roman"/>
              </a:rPr>
              <a:t>And not before long, the first set of aviation regulations were introduc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09680" y="160020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304920"/>
            <a:ext cx="830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c0b478"/>
                </a:solidFill>
                <a:latin typeface="High Tower Text"/>
                <a:ea typeface="Times New Roman"/>
              </a:rPr>
              <a:t>Airplanes became more and more common, and were soon used for warlike oper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914560" y="2057400"/>
            <a:ext cx="5772240" cy="421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304920"/>
            <a:ext cx="830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c0b478"/>
                </a:solidFill>
                <a:latin typeface="High Tower Text"/>
                <a:ea typeface="Times New Roman"/>
              </a:rPr>
              <a:t>Aviators were considered heroes, such as Freiherr von Richthofen, famous for his nicknam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809880" y="1600200"/>
            <a:ext cx="4876920" cy="4876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8T20:36:45Z</dcterms:created>
  <dc:creator>Stefan</dc:creator>
  <dc:description/>
  <dc:language>en-US</dc:language>
  <cp:lastModifiedBy>Stefan</cp:lastModifiedBy>
  <dcterms:modified xsi:type="dcterms:W3CDTF">2010-07-22T18:35:24Z</dcterms:modified>
  <cp:revision>18</cp:revision>
  <dc:subject/>
  <dc:title>PowerPoint-Präsentation</dc:title>
</cp:coreProperties>
</file>